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962-DD02-4E78-B00E-7CB52DC3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2E5-48B4-43A0-B2C4-4492554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0FA-3F73-4C76-8C06-4135DF1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347-2D64-421D-A72D-EC11C2A1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637B-41F9-41D5-8F56-353BB192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E2A1-A2EF-46C8-931B-09B44160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4DE1-716F-42E5-9A2F-DD3489A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1D08-C8B9-4D9D-8208-FF58E639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154-579A-4884-B5BF-C5E7810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124-4101-43C4-9B07-EE6729E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0F9F-4DD7-4F8E-B212-DAC558C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24D-EBA2-4200-B3CA-D6482CA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3B2B-3BDD-479E-8265-D90150A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7B0E-B6AA-4053-B56D-77EF2CC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D28C-E6FB-493F-84BE-D76E58D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4E50-ACF8-4D92-AA8C-F8676884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CFD9-2F33-416A-A1EF-78414C7A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B6C-4EA1-4CC2-B81F-8C25D7F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759-782E-408B-B7DF-5A78737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4C3-D4BB-4A61-9CA9-9E35D1A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50D-1496-4F91-8F66-066D426E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4D1-42A1-4BF1-A7AB-80A2A20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306-605D-4C5F-A16D-1BE1B1A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B52-028D-4041-97B1-541734D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7274-3DDE-41F1-B35D-9BAD370FB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A5EC-AF60-4FA3-B89F-3F792517D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стный журнал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апреля- Благовещенье Пресвятой Богород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1 страница 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  7 апреля – Благовещенье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православных 7 апреля день особен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этим праздником связана трогательная традиция – отпущение птиц на во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чужбине свято наблюд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дной обычай  стар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олю птичку отпуск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 светлом празднике ве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стал доступен утешень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 что на Бога мне ропт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хоть одному творен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мог свободу даро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жили наши предк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ину у людей не было телевизоров, радио, компьют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чтобы как – то скрасить свой быт, они держали в клетках певчих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ицы своим пением украшали жизнь, радовали людей, улучшали им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го же держали в клетках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к клетках держали певчих птиц, которых ловили с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в нашей местности могли поймать чижа, снегиря, щегла, чечёт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 страница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Чечётки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 – че – че, чёт – чёт – чё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и криками выдают себ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чётки, словно имя сво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крикивают.  Ловко обир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семена с берёзы и ольх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зимы их можно увидеть на былинках полыни, лебеды, крапивы. На деревьях семян остаётся мало, а на травах ещё порядоч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95092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вел Барто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Arial Black"/>
              </a:rPr>
              <a:t>Чечёт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ветвях, как в счетах  чё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ведут чему- счё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ый день трещат чечёт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Чёт и нечет, нечет , чё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рый чечет в красной  шапк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 пунцовых перьях груд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цепился к ветке шатк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 к себе серьгу пригну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юнет чечет,  крикнет : «Нече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чечётки:          «Чёт-чёт-чё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молчит на   это  чеч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трещат чечётки  : « Нечет!»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 любят точный счёт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58920" cy="481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 страница.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негир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44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295280"/>
            <a:ext cx="4038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неги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белело за окошк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ё в снегу. Какая ши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абытая матрё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рыльце у нас снеги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, снегирь, не прячься в чащ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вляй лесную да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летай в наш сад почащ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сти зёрен нам не жа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страница.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Щего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-2743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362320"/>
            <a:ext cx="457200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е-ре-бить!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ичит щег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ойный , пёстры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голь пт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епейник, как за ст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а лущить сад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етру бурьян колю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щеглом качает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ьётся тучей пух летучий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бед конч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03T18:29:1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